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192-085E-4A82-BBB9-6B161D9F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8142-072A-4067-9D1C-08A8BB2B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3264-51A6-473D-A7F6-276429D9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D3F-4C62-4631-AA63-FD63F33D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753C8-C670-47CE-9CAF-36F0E39CB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063E-AF44-4BFC-91DB-A8389949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E4C-D819-42EC-A619-4EC82BFE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FF5D-C07C-45AA-ABCE-203C55E6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6627F-69BF-4704-B76D-7EB9C7B4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0A3A-0456-4C80-9566-74525216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28F2-65D0-4A26-8949-9ACC615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3523-E920-4078-A897-57180757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DAAD-2EF1-4C0A-8628-213EBF1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BB57-B5B3-4922-B745-F1CB2F83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0097-9DA4-4275-B4AA-CEBE582B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A1FA-F62B-4C98-82CD-48472C04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9530-DE82-4F16-B1DD-46599B2B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7962-A10C-446D-86CF-CF141BF32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C65-633E-40C5-B4DD-A8AB85D3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1A25-9A6E-43BB-8FA0-D7170DF6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D097-9209-4214-9548-D05BDA39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6F1-FA3D-41DA-91AE-2E8E6E3A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A7B9-6189-4BD7-A725-E97EDEA7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F45-5B96-4B21-AA52-C3C6DDEB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10BE-B5DD-4232-8306-6EE41750AC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8884-EA30-4516-9099-815131F75D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lze.Trusinska@vidm.gov.lv" TargetMode="External"/><Relationship Id="rId2" Type="http://schemas.openxmlformats.org/officeDocument/2006/relationships/hyperlink" Target="http://www.vidm.gov.lv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6000" spc="-1" strike="noStrike">
                <a:solidFill>
                  <a:srgbClr val="ffff00"/>
                </a:solidFill>
                <a:latin typeface="Arial"/>
              </a:rPr>
              <a:t>Vides aizsardzības lietu trīspusējās sadarbības apakšpadomes darbība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Vides aizsardzības lietu trīspusējās sadarbības apakšpadomes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(turpmāk VALTSA) </a:t>
            </a:r>
            <a:br>
              <a:rPr sz="4000"/>
            </a:br>
            <a:r>
              <a:rPr b="1" lang="lv-LV" sz="4000" spc="-1" strike="noStrike">
                <a:solidFill>
                  <a:srgbClr val="b2b2b2"/>
                </a:solidFill>
                <a:latin typeface="Arial"/>
              </a:rPr>
              <a:t>sastāvs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3068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ē ir 15 pārstāvji (pa 5 no katras puses), kurus deleģē Vides ministrija, Latvijas Brīvo Arodbiedrību savienība un Latvijas Darba Devēju konfederāc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ALTSA uzdev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skatīt politikas plānošanas un normatīvo aktu projektus, valsts budžeta projekta pamatnostādne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vides aizsardzības normatīvo aktu pilnveidošan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edalīties priekšlikumu izstrādāšanā un izskatīt Latvijas nacionālās pozīcijas vides aizsardzības jautājum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rbības metod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stāvīga informācijas apmaiņ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kšanā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dom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ēd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izi divos mēnešos(2007. gadā notikušas 5 sanāksm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tāvīga elektroniskā komunikāci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2007. gadā VALTSA sēdēs skatītie jautājumi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isijas kvotu sadales plāna 2008.-2012. gadam apstiprināšanas gaita Eiropas Komis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iācijas iekļaušana Eiropas Savienības emisiju kvotu tirdzniecības sistēm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jaunojamo energoresursu izmantošanas pamatnostādņu  2006.-2013. g. ieviešan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ikumu projekts „Noteikumi par elektroenerģijas ražošanu izmantojot atjaunojamos energoresursu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cionālais pārskats par Ilgtspējīgas attīstības stratēģijas īstenošan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kumprojekts „Grozījumi atkritumu apsaimniekošanas likumā”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gtspējīga patēriņa, ražošanas Rīcības plān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ļā iepirkuma veicināšana Latvij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ropas Savienības Vides ministru padomes darba kārtības jautājum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2008. gada plānotie jautājumi VALTSA sēdē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nerģētikas  un klimata pake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emisijas kvotu tirdzniecības sistē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ārskatīšan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ēmuma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ltumnīcefekta gāzu emisijā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kuras neaptver ES emisijas kvotu tirdzniecības sistēma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rektīvas projekts par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jaunojamo energoresursu avot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zmantošanu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iācijas radītā ietekme uz klimata pārmaiņā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iropas Savienības Vides padomju izskatāmie darba kārtības jautājum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ļais iepirku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701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Paldies par uzmanību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Ilze Trušinska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Vides aizsardzības lietu trīspusējās sadarbības apakšpadomes sekretā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Ilze.Trusinska@vidm.gov.l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t. 6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6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lv-LV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vidm.gov.lv/</a:t>
            </a: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ffff"/>
                </a:solidFill>
                <a:latin typeface="Arial"/>
              </a:rPr>
              <a:t>sadaļā padomes un konsultatīvās padomes „Vides aizsardzības lietu trīspusējās sadarbības apakšpad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27:45Z</dcterms:created>
  <dc:creator>Aija</dc:creator>
  <dc:description/>
  <dc:language>en-US</dc:language>
  <cp:lastModifiedBy>Sanita Diediske</cp:lastModifiedBy>
  <dcterms:modified xsi:type="dcterms:W3CDTF">2008-05-09T08:36:32Z</dcterms:modified>
  <cp:revision>17</cp:revision>
  <dc:subject/>
  <dc:title>Stratēģijas un koordinācijas departament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08320886</vt:r8>
  </property>
  <property fmtid="{D5CDD505-2E9C-101B-9397-08002B2CF9AE}" pid="3" name="_AuthorEmail">
    <vt:lpwstr>Ilze.Trusinska@vidm.gov.lv</vt:lpwstr>
  </property>
  <property fmtid="{D5CDD505-2E9C-101B-9397-08002B2CF9AE}" pid="4" name="_AuthorEmailDisplayName">
    <vt:lpwstr>Ilze Trušinska</vt:lpwstr>
  </property>
  <property fmtid="{D5CDD505-2E9C-101B-9397-08002B2CF9AE}" pid="5" name="_EmailSubject">
    <vt:lpwstr>VALTSA darbība_2007. gads</vt:lpwstr>
  </property>
  <property fmtid="{D5CDD505-2E9C-101B-9397-08002B2CF9AE}" pid="6" name="_ReviewingToolsShownOnce">
    <vt:lpwstr/>
  </property>
</Properties>
</file>